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5.pct" ContentType="image/x-pict"/>
  <Override PartName="/ppt/media/image16.png" ContentType="image/png"/>
  <Override PartName="/ppt/media/image15.png" ContentType="image/png"/>
  <Override PartName="/ppt/media/image14.png" ContentType="image/png"/>
  <Override PartName="/ppt/media/image2.pct" ContentType="image/x-pict"/>
  <Override PartName="/ppt/media/image10.png" ContentType="image/png"/>
  <Override PartName="/ppt/media/image3.pct" ContentType="image/x-pict"/>
  <Override PartName="/ppt/media/image11.png" ContentType="image/png"/>
  <Override PartName="/ppt/media/image6.png" ContentType="image/png"/>
  <Override PartName="/ppt/media/image17.pct" ContentType="image/x-pict"/>
  <Override PartName="/ppt/media/image4.pct" ContentType="image/x-pict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6AF2-734B-489E-8271-1CB16F9E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800-5926-46DE-AB68-4C7E7DF7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AC8-2E22-46E1-8B71-75AD7786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89A-C4DB-4CB5-BF08-7FE1626B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E51-7566-40E2-A363-60408395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F17-60FE-4BF1-AC85-4012A402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D5D-5FAD-4D95-A090-529FFA87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4BC-A5A7-4F1D-8C70-491B1A7C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5C4-0362-40A7-AF62-A1338204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536-743B-4667-87DD-981EA26A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0F0-8471-4301-ADC8-5055FDF0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14A-9806-473E-9C2B-B7CD63F7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4EC8-5BBE-4563-A7F7-A2642D737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ct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oh.wav" TargetMode="External"/><Relationship Id="rId2" Type="http://schemas.openxmlformats.org/officeDocument/2006/relationships/image" Target="../media/image6.png"/><Relationship Id="rId3" Type="http://schemas.openxmlformats.org/officeDocument/2006/relationships/hyperlink" Target="file:///tmp/home/.config/libreoffice/4/user/gallery/rrdont.wav" TargetMode="External"/><Relationship Id="rId4" Type="http://schemas.openxmlformats.org/officeDocument/2006/relationships/image" Target="../media/image7.png"/><Relationship Id="rId5" Type="http://schemas.openxmlformats.org/officeDocument/2006/relationships/hyperlink" Target="file:///tmp/home/.config/libreoffice/4/user/gallery/doh.wav" TargetMode="External"/><Relationship Id="rId6" Type="http://schemas.openxmlformats.org/officeDocument/2006/relationships/image" Target="../media/image8.png"/><Relationship Id="rId7" Type="http://schemas.openxmlformats.org/officeDocument/2006/relationships/hyperlink" Target="file:///tmp/home/.config/libreoffice/4/user/gallery/dinobark.wav" TargetMode="Externa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d-ole.wav" TargetMode="External"/><Relationship Id="rId2" Type="http://schemas.openxmlformats.org/officeDocument/2006/relationships/image" Target="../media/image10.png"/><Relationship Id="rId3" Type="http://schemas.openxmlformats.org/officeDocument/2006/relationships/hyperlink" Target="file:///tmp/home/.config/libreoffice/4/user/gallery/doh.wav" TargetMode="External"/><Relationship Id="rId4" Type="http://schemas.openxmlformats.org/officeDocument/2006/relationships/image" Target="../media/image11.png"/><Relationship Id="rId5" Type="http://schemas.openxmlformats.org/officeDocument/2006/relationships/hyperlink" Target="file:///tmp/home/.config/libreoffice/4/user/gallery/singlemoo.wav" TargetMode="External"/><Relationship Id="rId6" Type="http://schemas.openxmlformats.org/officeDocument/2006/relationships/image" Target="../media/image12.png"/><Relationship Id="rId7" Type="http://schemas.openxmlformats.org/officeDocument/2006/relationships/hyperlink" Target="file:///tmp/home/.config/libreoffice/4/user/gallery/rrdont.wav" TargetMode="External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yabba.wav" TargetMode="External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jrutoh.wav" TargetMode="External"/><Relationship Id="rId4" Type="http://schemas.openxmlformats.org/officeDocument/2006/relationships/image" Target="../media/image15.png"/><Relationship Id="rId5" Type="http://schemas.openxmlformats.org/officeDocument/2006/relationships/hyperlink" Target="file:///tmp/home/.config/libreoffice/4/user/gallery/tsguilt.wav" TargetMode="Externa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tmp/home/.config/libreoffice/4/user/gallery/Clapping" TargetMode="External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-2361960" y="2895480"/>
            <a:ext cx="66294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Animals and Things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23880" y="2057400"/>
          <a:ext cx="358164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358164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962520" y="0"/>
          <a:ext cx="4101840" cy="21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0"/>
                    <a:ext cx="41018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523880" y="4724280"/>
          <a:ext cx="5132520" cy="181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724280"/>
                    <a:ext cx="513252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5257800" y="2666880"/>
          <a:ext cx="3301920" cy="304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2666880"/>
                    <a:ext cx="33019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84872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0"/>
            <a:ext cx="3390840" cy="2486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733920"/>
            <a:ext cx="2108160" cy="2108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2362320"/>
            <a:ext cx="1524240" cy="3962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60948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o lives in the ocea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81280" y="3276720"/>
            <a:ext cx="3156120" cy="281628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305920" y="571500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" w="21600" h="32400">
                <a:moveTo>
                  <a:pt x="3794" y="9194"/>
                </a:moveTo>
                <a:lnTo>
                  <a:pt x="17806" y="16200"/>
                </a:lnTo>
                <a:lnTo>
                  <a:pt x="3794" y="232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895480"/>
            <a:ext cx="2629080" cy="19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057400"/>
            <a:ext cx="2286000" cy="1870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4495680"/>
            <a:ext cx="2546640" cy="1816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38080" y="380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s milk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304920"/>
            <a:ext cx="4038840" cy="143352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609480"/>
            <a:ext cx="1828800" cy="191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3048120"/>
            <a:ext cx="176040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05520" y="3581280"/>
            <a:ext cx="2685960" cy="2432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3049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lives at the beach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04920" y="533520"/>
          <a:ext cx="320040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>
                    <a:hlinkClick r:id="" action="ppaction://hlinkshowjump?jump=firstslide"/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33520"/>
                    <a:ext cx="320040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304920" y="48769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1371600"/>
            <a:ext cx="198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er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84872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30T12:51:10Z</dcterms:created>
  <dc:creator>Annette Loy</dc:creator>
  <dc:description/>
  <dc:language>en-US</dc:language>
  <cp:lastModifiedBy>Annette Loy</cp:lastModifiedBy>
  <dcterms:modified xsi:type="dcterms:W3CDTF">1999-01-31T17:47:10Z</dcterms:modified>
  <cp:revision>10</cp:revision>
  <dc:subject/>
  <dc:title> </dc:title>
</cp:coreProperties>
</file>